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520200"/>
            <a:ext cx="9815400" cy="15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68120" y="2184120"/>
            <a:ext cx="9731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168120" y="4547520"/>
            <a:ext cx="9731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520200"/>
            <a:ext cx="9815400" cy="15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68120" y="2184120"/>
            <a:ext cx="47487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54840" y="2184120"/>
            <a:ext cx="47487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68120" y="4547520"/>
            <a:ext cx="47487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5154840" y="4547520"/>
            <a:ext cx="47487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520200"/>
            <a:ext cx="9815400" cy="15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68120" y="2184120"/>
            <a:ext cx="31334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458520" y="2184120"/>
            <a:ext cx="31334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749280" y="2184120"/>
            <a:ext cx="31334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168120" y="4547520"/>
            <a:ext cx="31334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458520" y="4547520"/>
            <a:ext cx="31334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749280" y="4547520"/>
            <a:ext cx="31334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520200"/>
            <a:ext cx="9815400" cy="15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168120" y="2184120"/>
            <a:ext cx="9731520" cy="45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520200"/>
            <a:ext cx="9815400" cy="15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8120" y="2184120"/>
            <a:ext cx="9731520" cy="45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360" y="520200"/>
            <a:ext cx="9815400" cy="15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68120" y="2184120"/>
            <a:ext cx="4748760" cy="45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4840" y="2184120"/>
            <a:ext cx="4748760" cy="45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360" y="520200"/>
            <a:ext cx="9815400" cy="15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-360" y="520200"/>
            <a:ext cx="9815400" cy="719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520200"/>
            <a:ext cx="9815400" cy="15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68120" y="2184120"/>
            <a:ext cx="47487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54840" y="2184120"/>
            <a:ext cx="4748760" cy="45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68120" y="4547520"/>
            <a:ext cx="47487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-360" y="520200"/>
            <a:ext cx="9815400" cy="15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68120" y="2184120"/>
            <a:ext cx="4748760" cy="45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154840" y="2184120"/>
            <a:ext cx="47487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154840" y="4547520"/>
            <a:ext cx="47487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520200"/>
            <a:ext cx="9815400" cy="15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68120" y="2184120"/>
            <a:ext cx="47487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54840" y="2184120"/>
            <a:ext cx="47487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68120" y="4547520"/>
            <a:ext cx="9731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20000" y="7056360"/>
            <a:ext cx="10922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fld id="{CAE733AB-BE20-49D9-B498-B839F305DBF3}" type="slidenum">
              <a:rPr b="0" lang="en-GB" sz="1400" spc="-1" strike="noStrike">
                <a:solidFill>
                  <a:srgbClr val="ffff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84240"/>
            <a:ext cx="10069560" cy="241200"/>
            <a:chOff x="0" y="84240"/>
            <a:chExt cx="10069560" cy="241200"/>
          </a:xfrm>
        </p:grpSpPr>
        <p:sp>
          <p:nvSpPr>
            <p:cNvPr id="2" name=""/>
            <p:cNvSpPr/>
            <p:nvPr/>
          </p:nvSpPr>
          <p:spPr>
            <a:xfrm>
              <a:off x="0" y="84240"/>
              <a:ext cx="10069560" cy="241200"/>
            </a:xfrm>
            <a:prstGeom prst="roundRect">
              <a:avLst>
                <a:gd name="adj" fmla="val 65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3641760" y="146160"/>
            <a:ext cx="3397320" cy="338040"/>
            <a:chOff x="3641760" y="146160"/>
            <a:chExt cx="3397320" cy="338040"/>
          </a:xfrm>
        </p:grpSpPr>
        <p:sp>
          <p:nvSpPr>
            <p:cNvPr id="4" name=""/>
            <p:cNvSpPr/>
            <p:nvPr/>
          </p:nvSpPr>
          <p:spPr>
            <a:xfrm>
              <a:off x="3641760" y="146160"/>
              <a:ext cx="3397320" cy="33804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" name=""/>
            <p:cNvGrpSpPr/>
            <p:nvPr/>
          </p:nvGrpSpPr>
          <p:grpSpPr>
            <a:xfrm>
              <a:off x="3641760" y="146160"/>
              <a:ext cx="3392280" cy="333360"/>
              <a:chOff x="3641760" y="146160"/>
              <a:chExt cx="3392280" cy="333360"/>
            </a:xfrm>
          </p:grpSpPr>
          <p:sp>
            <p:nvSpPr>
              <p:cNvPr id="6" name=""/>
              <p:cNvSpPr/>
              <p:nvPr/>
            </p:nvSpPr>
            <p:spPr>
              <a:xfrm>
                <a:off x="3641760" y="146160"/>
                <a:ext cx="3392280" cy="33336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" name=""/>
              <p:cNvGrpSpPr/>
              <p:nvPr/>
            </p:nvGrpSpPr>
            <p:grpSpPr>
              <a:xfrm>
                <a:off x="3641760" y="146160"/>
                <a:ext cx="3389400" cy="330120"/>
                <a:chOff x="3641760" y="146160"/>
                <a:chExt cx="3389400" cy="330120"/>
              </a:xfrm>
            </p:grpSpPr>
            <p:sp>
              <p:nvSpPr>
                <p:cNvPr id="8" name=""/>
                <p:cNvSpPr/>
                <p:nvPr/>
              </p:nvSpPr>
              <p:spPr>
                <a:xfrm>
                  <a:off x="3641760" y="146160"/>
                  <a:ext cx="3389400" cy="330120"/>
                </a:xfrm>
                <a:prstGeom prst="roundRect">
                  <a:avLst>
                    <a:gd name="adj" fmla="val 477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" name=""/>
                <p:cNvGrpSpPr/>
                <p:nvPr/>
              </p:nvGrpSpPr>
              <p:grpSpPr>
                <a:xfrm>
                  <a:off x="3641760" y="146160"/>
                  <a:ext cx="3387600" cy="328680"/>
                  <a:chOff x="3641760" y="146160"/>
                  <a:chExt cx="3387600" cy="32868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3641760" y="146160"/>
                    <a:ext cx="3387600" cy="328680"/>
                  </a:xfrm>
                  <a:prstGeom prst="roundRect">
                    <a:avLst>
                      <a:gd name="adj" fmla="val 481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" name=""/>
                  <p:cNvGrpSpPr/>
                  <p:nvPr/>
                </p:nvGrpSpPr>
                <p:grpSpPr>
                  <a:xfrm>
                    <a:off x="3641760" y="146160"/>
                    <a:ext cx="3387600" cy="328680"/>
                    <a:chOff x="3641760" y="146160"/>
                    <a:chExt cx="3387600" cy="328680"/>
                  </a:xfrm>
                </p:grpSpPr>
                <p:sp>
                  <p:nvSpPr>
                    <p:cNvPr id="12" name=""/>
                    <p:cNvSpPr/>
                    <p:nvPr/>
                  </p:nvSpPr>
                  <p:spPr>
                    <a:xfrm>
                      <a:off x="3641760" y="146160"/>
                      <a:ext cx="3387600" cy="328680"/>
                    </a:xfrm>
                    <a:prstGeom prst="roundRect">
                      <a:avLst>
                        <a:gd name="adj" fmla="val 481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" name=""/>
                    <p:cNvSpPr/>
                    <p:nvPr/>
                  </p:nvSpPr>
                  <p:spPr>
                    <a:xfrm>
                      <a:off x="4055760" y="146160"/>
                      <a:ext cx="2559600" cy="231480"/>
                    </a:xfrm>
                    <a:prstGeom prst="roundRect">
                      <a:avLst>
                        <a:gd name="adj" fmla="val 481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GMOD Meeting, Spring 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grpSp>
        <p:nvGrpSpPr>
          <p:cNvPr id="14" name=""/>
          <p:cNvGrpSpPr/>
          <p:nvPr/>
        </p:nvGrpSpPr>
        <p:grpSpPr>
          <a:xfrm>
            <a:off x="3460680" y="7058160"/>
            <a:ext cx="4006800" cy="348480"/>
            <a:chOff x="3460680" y="7058160"/>
            <a:chExt cx="4006800" cy="348480"/>
          </a:xfrm>
        </p:grpSpPr>
        <p:sp>
          <p:nvSpPr>
            <p:cNvPr id="15" name=""/>
            <p:cNvSpPr/>
            <p:nvPr/>
          </p:nvSpPr>
          <p:spPr>
            <a:xfrm>
              <a:off x="3460680" y="7058160"/>
              <a:ext cx="4006800" cy="33804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" name=""/>
            <p:cNvGrpSpPr/>
            <p:nvPr/>
          </p:nvGrpSpPr>
          <p:grpSpPr>
            <a:xfrm>
              <a:off x="3460680" y="7058160"/>
              <a:ext cx="4002120" cy="348480"/>
              <a:chOff x="3460680" y="7058160"/>
              <a:chExt cx="4002120" cy="348480"/>
            </a:xfrm>
          </p:grpSpPr>
          <p:sp>
            <p:nvSpPr>
              <p:cNvPr id="17" name=""/>
              <p:cNvSpPr/>
              <p:nvPr/>
            </p:nvSpPr>
            <p:spPr>
              <a:xfrm>
                <a:off x="3460680" y="7058160"/>
                <a:ext cx="4002120" cy="333360"/>
              </a:xfrm>
              <a:prstGeom prst="roundRect">
                <a:avLst>
                  <a:gd name="adj" fmla="val 47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" name=""/>
              <p:cNvGrpSpPr/>
              <p:nvPr/>
            </p:nvGrpSpPr>
            <p:grpSpPr>
              <a:xfrm>
                <a:off x="3460680" y="7058160"/>
                <a:ext cx="3998880" cy="348480"/>
                <a:chOff x="3460680" y="7058160"/>
                <a:chExt cx="3998880" cy="348480"/>
              </a:xfrm>
            </p:grpSpPr>
            <p:sp>
              <p:nvSpPr>
                <p:cNvPr id="19" name=""/>
                <p:cNvSpPr/>
                <p:nvPr/>
              </p:nvSpPr>
              <p:spPr>
                <a:xfrm>
                  <a:off x="3460680" y="7058160"/>
                  <a:ext cx="3998880" cy="330120"/>
                </a:xfrm>
                <a:prstGeom prst="roundRect">
                  <a:avLst>
                    <a:gd name="adj" fmla="val 477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" name=""/>
                <p:cNvGrpSpPr/>
                <p:nvPr/>
              </p:nvGrpSpPr>
              <p:grpSpPr>
                <a:xfrm>
                  <a:off x="3460680" y="7058160"/>
                  <a:ext cx="3997440" cy="348480"/>
                  <a:chOff x="3460680" y="7058160"/>
                  <a:chExt cx="3997440" cy="348480"/>
                </a:xfrm>
              </p:grpSpPr>
              <p:sp>
                <p:nvSpPr>
                  <p:cNvPr id="21" name=""/>
                  <p:cNvSpPr/>
                  <p:nvPr/>
                </p:nvSpPr>
                <p:spPr>
                  <a:xfrm>
                    <a:off x="3460680" y="7058160"/>
                    <a:ext cx="3997440" cy="328320"/>
                  </a:xfrm>
                  <a:prstGeom prst="roundRect">
                    <a:avLst>
                      <a:gd name="adj" fmla="val 481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2" name=""/>
                  <p:cNvGrpSpPr/>
                  <p:nvPr/>
                </p:nvGrpSpPr>
                <p:grpSpPr>
                  <a:xfrm>
                    <a:off x="3460680" y="7058160"/>
                    <a:ext cx="3997440" cy="348480"/>
                    <a:chOff x="3460680" y="7058160"/>
                    <a:chExt cx="3997440" cy="348480"/>
                  </a:xfrm>
                </p:grpSpPr>
                <p:sp>
                  <p:nvSpPr>
                    <p:cNvPr id="23" name=""/>
                    <p:cNvSpPr/>
                    <p:nvPr/>
                  </p:nvSpPr>
                  <p:spPr>
                    <a:xfrm>
                      <a:off x="3460680" y="7058160"/>
                      <a:ext cx="3997440" cy="328320"/>
                    </a:xfrm>
                    <a:prstGeom prst="roundRect">
                      <a:avLst>
                        <a:gd name="adj" fmla="val 481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" name=""/>
                    <p:cNvSpPr/>
                    <p:nvPr/>
                  </p:nvSpPr>
                  <p:spPr>
                    <a:xfrm>
                      <a:off x="4064760" y="7058160"/>
                      <a:ext cx="2788920" cy="348480"/>
                    </a:xfrm>
                    <a:prstGeom prst="roundRect">
                      <a:avLst>
                        <a:gd name="adj" fmla="val 481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Peili Zhang, FlyBase - Harv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520200"/>
            <a:ext cx="9815400" cy="15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body"/>
          </p:nvPr>
        </p:nvSpPr>
        <p:spPr>
          <a:xfrm>
            <a:off x="168120" y="2184120"/>
            <a:ext cx="9731520" cy="45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5920" indent="-38592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  <a:p>
            <a:pPr lvl="1" marL="851040" indent="-34452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  <a:p>
            <a:pPr lvl="2" marL="1293840" indent="-2746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  <a:p>
            <a:pPr lvl="3" marL="1758960" indent="-34452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  <a:p>
            <a:pPr lvl="4" marL="2157480" indent="-28260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  <a:p>
            <a:pPr lvl="5" marL="2157480" indent="-282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  <a:p>
            <a:pPr lvl="6" marL="2157480" indent="-282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06080" y="1058400"/>
            <a:ext cx="9202680" cy="53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 Black"/>
              </a:rPr>
              <a:t>Comparative Genome Annotation of </a:t>
            </a:r>
            <a:r>
              <a:rPr b="1" i="1" lang="en-GB" sz="4000" spc="-1" strike="noStrike">
                <a:solidFill>
                  <a:srgbClr val="ffff00"/>
                </a:solidFill>
                <a:latin typeface="Arial Black"/>
              </a:rPr>
              <a:t>Drosophila</a:t>
            </a:r>
            <a:r>
              <a:rPr b="1" lang="en-GB" sz="40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1" i="1" lang="en-GB" sz="4000" spc="-1" strike="noStrike">
                <a:solidFill>
                  <a:srgbClr val="ffff00"/>
                </a:solidFill>
                <a:latin typeface="Arial Black"/>
              </a:rPr>
              <a:t>pseudoobscura</a:t>
            </a:r>
            <a:r>
              <a:rPr b="1" lang="en-GB" sz="4000" spc="-1" strike="noStrike">
                <a:solidFill>
                  <a:srgbClr val="ffff00"/>
                </a:solidFill>
                <a:latin typeface="Arial Black"/>
              </a:rPr>
              <a:t> and Its Implementation in chado</a:t>
            </a:r>
            <a:endParaRPr b="0" lang="en-US" sz="4000" spc="-1" strike="noStrike">
              <a:solidFill>
                <a:srgbClr val="ffff00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193760" y="1015920"/>
            <a:ext cx="7772400" cy="58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rcRect l="14063" t="23125" r="2813" b="17500"/>
          <a:stretch/>
        </p:blipFill>
        <p:spPr>
          <a:xfrm>
            <a:off x="1025640" y="919080"/>
            <a:ext cx="8229600" cy="566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87800" y="743040"/>
            <a:ext cx="374652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77760" y="1920960"/>
            <a:ext cx="8670960" cy="52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 u="sng">
                <a:solidFill>
                  <a:srgbClr val="ffff00"/>
                </a:solidFill>
                <a:uFillTx/>
                <a:latin typeface="Times New Roman"/>
              </a:rPr>
              <a:t>FlyBase</a:t>
            </a:r>
            <a:r>
              <a:rPr b="0" lang="en-GB" sz="36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GB" sz="36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GB" sz="36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GB" sz="36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GB" sz="36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GB" sz="36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GB" sz="36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GB" sz="3600" spc="-1" strike="noStrike" u="sng">
                <a:solidFill>
                  <a:srgbClr val="ffff00"/>
                </a:solidFill>
                <a:uFillTx/>
                <a:latin typeface="Times New Roman"/>
              </a:rPr>
              <a:t>Baylor College of </a:t>
            </a:r>
            <a:r>
              <a:rPr b="0" lang="en-GB" sz="36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GB" sz="36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GB" sz="36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GB" sz="36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GB" sz="36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GB" sz="36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GB" sz="36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GB" sz="36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GB" sz="36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GB" sz="36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GB" sz="36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GB" sz="36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n-GB" sz="3600" spc="-1" strike="noStrike" u="sng">
                <a:solidFill>
                  <a:srgbClr val="ffff00"/>
                </a:solidFill>
                <a:uFillTx/>
                <a:latin typeface="Times New Roman"/>
              </a:rPr>
              <a:t>Medic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Bill Gelbart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Stephen Richar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Brian Bettencourt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Yue Li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Pavel Hradecky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Kim Worle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Stan Letovsky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Rui Ch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David Emmert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George Weinsto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Everyone at FlyBase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Richard Gibb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569960" y="1450800"/>
            <a:ext cx="7315200" cy="5513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868320" y="755640"/>
            <a:ext cx="6583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ffff00"/>
                </a:solidFill>
                <a:latin typeface="Times New Roman"/>
              </a:rPr>
              <a:t>Drosophila</a:t>
            </a:r>
            <a:r>
              <a:rPr b="0" lang="en-GB" sz="4000" spc="-1" strike="noStrike">
                <a:solidFill>
                  <a:srgbClr val="ffff00"/>
                </a:solidFill>
                <a:latin typeface="Times New Roman"/>
              </a:rPr>
              <a:t> phylogeny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77880" y="704880"/>
            <a:ext cx="9036000" cy="65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Annotation Methodology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2163"/>
              </a:spcBef>
              <a:buClr>
                <a:srgbClr val="ffffff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Driven by orthology to </a:t>
            </a:r>
            <a:r>
              <a:rPr b="1" i="1" lang="en-GB" sz="3200" spc="-1" strike="noStrike">
                <a:solidFill>
                  <a:srgbClr val="ffff00"/>
                </a:solidFill>
                <a:latin typeface="Times New Roman"/>
              </a:rPr>
              <a:t>Drosophila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ff00"/>
                </a:solidFill>
                <a:latin typeface="Times New Roman"/>
              </a:rPr>
              <a:t>melanogaster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(Dmel) genome (over 13000 annotated genes with 19000 protein isoform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2163"/>
              </a:spcBef>
              <a:buClr>
                <a:srgbClr val="ffffff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Focused on protein-coding ge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2163"/>
              </a:spcBef>
              <a:buClr>
                <a:srgbClr val="ffffff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TBLASTN: query: 13659 Dmel</a:t>
            </a:r>
            <a:r>
              <a:rPr b="1" i="1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proteins                      subject: 8242 </a:t>
            </a:r>
            <a:r>
              <a:rPr b="1" i="1" lang="en-GB" sz="3200" spc="-1" strike="noStrike">
                <a:solidFill>
                  <a:srgbClr val="ffff00"/>
                </a:solidFill>
                <a:latin typeface="Times New Roman"/>
              </a:rPr>
              <a:t>D. pseudoobscura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(Dpse)</a:t>
            </a:r>
            <a:r>
              <a:rPr b="1" i="1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WGS                       conti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2163"/>
              </a:spcBef>
              <a:buClr>
                <a:srgbClr val="ffffff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Synteny, arm-ness conservation of fly ge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2163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obtained genomic locations of 12179 putative orthologs to Dmel</a:t>
            </a:r>
            <a:r>
              <a:rPr b="1" i="1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ge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68240" y="650880"/>
            <a:ext cx="8525160" cy="54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Annotation Methodology (continued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2163"/>
              </a:spcBef>
              <a:buClr>
                <a:srgbClr val="ffffff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Gene predictions: Genscan, Twinscan, Genewise (totally 53691 predic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3600"/>
              </a:spcBef>
              <a:buClr>
                <a:srgbClr val="ffffff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Gene predictions filtering: reciprocal best blastp hits (10515 predictions select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3600"/>
              </a:spcBef>
              <a:buClr>
                <a:srgbClr val="ffffff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Looking for overlap between predictions and TBLASTN ortholog calls, 9946 significantly overlapped predictions were promoted to be gene model annot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008000" y="558720"/>
            <a:ext cx="8237520" cy="61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Annotation Methodology (continued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2163"/>
              </a:spcBef>
              <a:buClr>
                <a:srgbClr val="ffffff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Mapping of Dpse genes FlyBase Curated from literatu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2163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~500 FlyBase curated Dpse ge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134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one most representative GenBank                     acc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122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unambiguous hits against Dpse WGS               conti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96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merged with TBLASTN ortholog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ca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18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imported into Dpse annotation set as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genetic loci on the geno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065240" y="2149560"/>
            <a:ext cx="8488440" cy="29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Evidence data for Dpse annota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ffffff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BLASTZ HSPs between Dmel and Dpse: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34,57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ffffff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Gene predi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ffffff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Dpse EST alignments: 34,611 E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135080" y="1065240"/>
            <a:ext cx="8069400" cy="43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Implementation of Comparative Data in Chad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Data objec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286"/>
              </a:spcBef>
              <a:buClr>
                <a:srgbClr val="ffffff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Orthologous Reg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ffffff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Ge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ffffff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Gene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ffffff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Syntenic Reg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ffffff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BLASTZ HS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135080" y="981000"/>
            <a:ext cx="7788240" cy="588348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6800" y="3100320"/>
            <a:ext cx="1755720" cy="1800"/>
          </a:xfrm>
          <a:prstGeom prst="line">
            <a:avLst/>
          </a:prstGeom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422440" y="4395960"/>
            <a:ext cx="1006560" cy="1440"/>
          </a:xfrm>
          <a:prstGeom prst="line">
            <a:avLst/>
          </a:prstGeom>
          <a:ln w="36720">
            <a:solidFill>
              <a:srgbClr val="33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06800" y="3086280"/>
            <a:ext cx="1755720" cy="1440"/>
          </a:xfrm>
          <a:prstGeom prst="line">
            <a:avLst/>
          </a:prstGeom>
          <a:ln w="3672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19480" y="3414600"/>
            <a:ext cx="274320" cy="1800"/>
          </a:xfrm>
          <a:prstGeom prst="line">
            <a:avLst/>
          </a:prstGeom>
          <a:ln w="367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79520" y="3821040"/>
            <a:ext cx="1408320" cy="1800"/>
          </a:xfrm>
          <a:prstGeom prst="line">
            <a:avLst/>
          </a:prstGeom>
          <a:ln w="367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717640" y="3417840"/>
            <a:ext cx="228600" cy="1800"/>
          </a:xfrm>
          <a:prstGeom prst="line">
            <a:avLst/>
          </a:prstGeom>
          <a:ln w="367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224160" y="3421080"/>
            <a:ext cx="503280" cy="1440"/>
          </a:xfrm>
          <a:prstGeom prst="line">
            <a:avLst/>
          </a:prstGeom>
          <a:ln w="367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540480" y="3387600"/>
            <a:ext cx="274680" cy="1800"/>
          </a:xfrm>
          <a:prstGeom prst="line">
            <a:avLst/>
          </a:prstGeom>
          <a:ln w="367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334280" y="3427560"/>
            <a:ext cx="549360" cy="1440"/>
          </a:xfrm>
          <a:prstGeom prst="line">
            <a:avLst/>
          </a:prstGeom>
          <a:ln w="367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969160" y="3394080"/>
            <a:ext cx="447480" cy="1440"/>
          </a:xfrm>
          <a:prstGeom prst="line">
            <a:avLst/>
          </a:prstGeom>
          <a:ln w="367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74760" y="5514840"/>
            <a:ext cx="822240" cy="1800"/>
          </a:xfrm>
          <a:prstGeom prst="line">
            <a:avLst/>
          </a:prstGeom>
          <a:ln w="3672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813280" y="3106800"/>
            <a:ext cx="2286000" cy="1440"/>
          </a:xfrm>
          <a:prstGeom prst="line">
            <a:avLst/>
          </a:prstGeom>
          <a:ln w="3672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76200" y="5878440"/>
            <a:ext cx="822600" cy="1800"/>
          </a:xfrm>
          <a:prstGeom prst="line">
            <a:avLst/>
          </a:prstGeom>
          <a:ln w="367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79440" y="6205680"/>
            <a:ext cx="822240" cy="1440"/>
          </a:xfrm>
          <a:prstGeom prst="line">
            <a:avLst/>
          </a:prstGeom>
          <a:ln w="36720">
            <a:solidFill>
              <a:srgbClr val="33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73400" y="5376960"/>
            <a:ext cx="4351320" cy="13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ff"/>
                </a:solidFill>
                <a:latin typeface="Times New Roman"/>
              </a:rPr>
              <a:t>G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ff"/>
                </a:solidFill>
                <a:latin typeface="Times New Roman"/>
              </a:rPr>
              <a:t>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66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feature_relationship (subj-&gt;obj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170760" y="4398840"/>
            <a:ext cx="1143000" cy="1800"/>
          </a:xfrm>
          <a:prstGeom prst="line">
            <a:avLst/>
          </a:prstGeom>
          <a:ln w="36720">
            <a:solidFill>
              <a:srgbClr val="33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954760" y="3822840"/>
            <a:ext cx="1882800" cy="1440"/>
          </a:xfrm>
          <a:prstGeom prst="line">
            <a:avLst/>
          </a:prstGeom>
          <a:ln w="367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79440" y="6540480"/>
            <a:ext cx="822240" cy="1440"/>
          </a:xfrm>
          <a:prstGeom prst="line">
            <a:avLst/>
          </a:prstGeom>
          <a:ln w="3672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347920" y="3419640"/>
            <a:ext cx="339840" cy="369720"/>
          </a:xfrm>
          <a:custGeom>
            <a:avLst/>
            <a:gdLst/>
            <a:ahLst/>
            <a:rect l="l" t="t" r="r" b="b"/>
            <a:pathLst>
              <a:path w="944" h="1028">
                <a:moveTo>
                  <a:pt x="114" y="0"/>
                </a:moveTo>
                <a:cubicBezTo>
                  <a:pt x="0" y="638"/>
                  <a:pt x="943" y="337"/>
                  <a:pt x="786" y="987"/>
                </a:cubicBezTo>
                <a:lnTo>
                  <a:pt x="786" y="1027"/>
                </a:lnTo>
              </a:path>
            </a:pathLst>
          </a:custGeom>
          <a:noFill/>
          <a:ln w="36720">
            <a:solidFill>
              <a:srgbClr val="00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782800" y="3421080"/>
            <a:ext cx="339840" cy="369720"/>
          </a:xfrm>
          <a:custGeom>
            <a:avLst/>
            <a:gdLst/>
            <a:ahLst/>
            <a:rect l="l" t="t" r="r" b="b"/>
            <a:pathLst>
              <a:path w="944" h="1028">
                <a:moveTo>
                  <a:pt x="114" y="0"/>
                </a:moveTo>
                <a:cubicBezTo>
                  <a:pt x="0" y="638"/>
                  <a:pt x="943" y="337"/>
                  <a:pt x="786" y="987"/>
                </a:cubicBezTo>
                <a:lnTo>
                  <a:pt x="786" y="1027"/>
                </a:lnTo>
              </a:path>
            </a:pathLst>
          </a:custGeom>
          <a:noFill/>
          <a:ln w="36720">
            <a:solidFill>
              <a:srgbClr val="00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168960" y="3460680"/>
            <a:ext cx="339840" cy="370080"/>
          </a:xfrm>
          <a:custGeom>
            <a:avLst/>
            <a:gdLst/>
            <a:ahLst/>
            <a:rect l="l" t="t" r="r" b="b"/>
            <a:pathLst>
              <a:path w="944" h="1028">
                <a:moveTo>
                  <a:pt x="114" y="0"/>
                </a:moveTo>
                <a:cubicBezTo>
                  <a:pt x="0" y="638"/>
                  <a:pt x="943" y="337"/>
                  <a:pt x="786" y="987"/>
                </a:cubicBezTo>
                <a:lnTo>
                  <a:pt x="786" y="1027"/>
                </a:lnTo>
              </a:path>
            </a:pathLst>
          </a:custGeom>
          <a:noFill/>
          <a:ln w="36720">
            <a:solidFill>
              <a:srgbClr val="00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640560" y="3427560"/>
            <a:ext cx="339840" cy="369720"/>
          </a:xfrm>
          <a:custGeom>
            <a:avLst/>
            <a:gdLst/>
            <a:ahLst/>
            <a:rect l="l" t="t" r="r" b="b"/>
            <a:pathLst>
              <a:path w="944" h="1028">
                <a:moveTo>
                  <a:pt x="114" y="0"/>
                </a:moveTo>
                <a:cubicBezTo>
                  <a:pt x="0" y="638"/>
                  <a:pt x="943" y="337"/>
                  <a:pt x="786" y="987"/>
                </a:cubicBezTo>
                <a:lnTo>
                  <a:pt x="786" y="1027"/>
                </a:lnTo>
              </a:path>
            </a:pathLst>
          </a:custGeom>
          <a:noFill/>
          <a:ln w="36720">
            <a:solidFill>
              <a:srgbClr val="00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98960" y="3432240"/>
            <a:ext cx="326880" cy="355680"/>
          </a:xfrm>
          <a:custGeom>
            <a:avLst/>
            <a:gdLst/>
            <a:ahLst/>
            <a:rect l="l" t="t" r="r" b="b"/>
            <a:pathLst>
              <a:path w="909" h="989">
                <a:moveTo>
                  <a:pt x="908" y="0"/>
                </a:moveTo>
                <a:lnTo>
                  <a:pt x="592" y="395"/>
                </a:lnTo>
                <a:lnTo>
                  <a:pt x="197" y="672"/>
                </a:lnTo>
                <a:lnTo>
                  <a:pt x="0" y="988"/>
                </a:lnTo>
              </a:path>
            </a:pathLst>
          </a:custGeom>
          <a:noFill/>
          <a:ln w="36720">
            <a:solidFill>
              <a:srgbClr val="00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377120" y="3471840"/>
            <a:ext cx="326880" cy="355680"/>
          </a:xfrm>
          <a:custGeom>
            <a:avLst/>
            <a:gdLst/>
            <a:ahLst/>
            <a:rect l="l" t="t" r="r" b="b"/>
            <a:pathLst>
              <a:path w="909" h="989">
                <a:moveTo>
                  <a:pt x="908" y="0"/>
                </a:moveTo>
                <a:lnTo>
                  <a:pt x="592" y="395"/>
                </a:lnTo>
                <a:lnTo>
                  <a:pt x="197" y="672"/>
                </a:lnTo>
                <a:lnTo>
                  <a:pt x="0" y="988"/>
                </a:lnTo>
              </a:path>
            </a:pathLst>
          </a:custGeom>
          <a:noFill/>
          <a:ln w="36720">
            <a:solidFill>
              <a:srgbClr val="00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28800" y="3830760"/>
            <a:ext cx="341280" cy="541080"/>
          </a:xfrm>
          <a:custGeom>
            <a:avLst/>
            <a:gdLst/>
            <a:ahLst/>
            <a:rect l="l" t="t" r="r" b="b"/>
            <a:pathLst>
              <a:path w="949" h="1503">
                <a:moveTo>
                  <a:pt x="0" y="1502"/>
                </a:moveTo>
                <a:cubicBezTo>
                  <a:pt x="249" y="1074"/>
                  <a:pt x="737" y="819"/>
                  <a:pt x="869" y="316"/>
                </a:cubicBezTo>
                <a:lnTo>
                  <a:pt x="948" y="0"/>
                </a:lnTo>
              </a:path>
            </a:pathLst>
          </a:custGeom>
          <a:noFill/>
          <a:ln w="36720">
            <a:solidFill>
              <a:srgbClr val="00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404040" y="3833640"/>
            <a:ext cx="341280" cy="541440"/>
          </a:xfrm>
          <a:custGeom>
            <a:avLst/>
            <a:gdLst/>
            <a:ahLst/>
            <a:rect l="l" t="t" r="r" b="b"/>
            <a:pathLst>
              <a:path w="949" h="1504">
                <a:moveTo>
                  <a:pt x="0" y="1503"/>
                </a:moveTo>
                <a:cubicBezTo>
                  <a:pt x="249" y="1075"/>
                  <a:pt x="737" y="819"/>
                  <a:pt x="869" y="316"/>
                </a:cubicBezTo>
                <a:lnTo>
                  <a:pt x="948" y="0"/>
                </a:lnTo>
              </a:path>
            </a:pathLst>
          </a:custGeom>
          <a:noFill/>
          <a:ln w="36720">
            <a:solidFill>
              <a:srgbClr val="00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687680" y="2435400"/>
            <a:ext cx="1137960" cy="3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Dp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234200" y="2438280"/>
            <a:ext cx="1138320" cy="3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Dm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971800" y="2300400"/>
            <a:ext cx="3413160" cy="792000"/>
          </a:xfrm>
          <a:custGeom>
            <a:avLst/>
            <a:gdLst/>
            <a:ahLst/>
            <a:rect l="l" t="t" r="r" b="b"/>
            <a:pathLst>
              <a:path w="9481" h="2201">
                <a:moveTo>
                  <a:pt x="119" y="2111"/>
                </a:moveTo>
                <a:cubicBezTo>
                  <a:pt x="155" y="1809"/>
                  <a:pt x="0" y="1438"/>
                  <a:pt x="554" y="1259"/>
                </a:cubicBezTo>
                <a:cubicBezTo>
                  <a:pt x="1026" y="1107"/>
                  <a:pt x="1358" y="792"/>
                  <a:pt x="1778" y="554"/>
                </a:cubicBezTo>
                <a:cubicBezTo>
                  <a:pt x="2142" y="347"/>
                  <a:pt x="2538" y="174"/>
                  <a:pt x="3002" y="113"/>
                </a:cubicBezTo>
                <a:cubicBezTo>
                  <a:pt x="3394" y="61"/>
                  <a:pt x="3792" y="88"/>
                  <a:pt x="4188" y="83"/>
                </a:cubicBezTo>
                <a:cubicBezTo>
                  <a:pt x="4595" y="79"/>
                  <a:pt x="5014" y="149"/>
                  <a:pt x="5412" y="83"/>
                </a:cubicBezTo>
                <a:cubicBezTo>
                  <a:pt x="5920" y="0"/>
                  <a:pt x="6146" y="284"/>
                  <a:pt x="6598" y="348"/>
                </a:cubicBezTo>
                <a:cubicBezTo>
                  <a:pt x="7116" y="422"/>
                  <a:pt x="7442" y="796"/>
                  <a:pt x="7861" y="1024"/>
                </a:cubicBezTo>
                <a:cubicBezTo>
                  <a:pt x="8285" y="1254"/>
                  <a:pt x="8566" y="1608"/>
                  <a:pt x="9046" y="1788"/>
                </a:cubicBezTo>
                <a:lnTo>
                  <a:pt x="9401" y="2082"/>
                </a:lnTo>
                <a:lnTo>
                  <a:pt x="9480" y="2200"/>
                </a:lnTo>
              </a:path>
            </a:pathLst>
          </a:custGeom>
          <a:noFill/>
          <a:ln w="36720">
            <a:solidFill>
              <a:srgbClr val="00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97120" y="3106800"/>
            <a:ext cx="271440" cy="711000"/>
          </a:xfrm>
          <a:custGeom>
            <a:avLst/>
            <a:gdLst/>
            <a:ahLst/>
            <a:rect l="l" t="t" r="r" b="b"/>
            <a:pathLst>
              <a:path w="754" h="1976">
                <a:moveTo>
                  <a:pt x="0" y="1975"/>
                </a:moveTo>
                <a:cubicBezTo>
                  <a:pt x="422" y="1687"/>
                  <a:pt x="379" y="1138"/>
                  <a:pt x="713" y="790"/>
                </a:cubicBezTo>
                <a:lnTo>
                  <a:pt x="713" y="395"/>
                </a:lnTo>
                <a:lnTo>
                  <a:pt x="753" y="0"/>
                </a:lnTo>
                <a:lnTo>
                  <a:pt x="753" y="0"/>
                </a:lnTo>
              </a:path>
            </a:pathLst>
          </a:custGeom>
          <a:noFill/>
          <a:ln w="36720">
            <a:solidFill>
              <a:srgbClr val="00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812000" y="3108240"/>
            <a:ext cx="271440" cy="711360"/>
          </a:xfrm>
          <a:custGeom>
            <a:avLst/>
            <a:gdLst/>
            <a:ahLst/>
            <a:rect l="l" t="t" r="r" b="b"/>
            <a:pathLst>
              <a:path w="754" h="1976">
                <a:moveTo>
                  <a:pt x="0" y="1975"/>
                </a:moveTo>
                <a:cubicBezTo>
                  <a:pt x="422" y="1687"/>
                  <a:pt x="379" y="1138"/>
                  <a:pt x="713" y="790"/>
                </a:cubicBezTo>
                <a:lnTo>
                  <a:pt x="713" y="395"/>
                </a:lnTo>
                <a:lnTo>
                  <a:pt x="753" y="0"/>
                </a:lnTo>
                <a:lnTo>
                  <a:pt x="753" y="0"/>
                </a:lnTo>
              </a:path>
            </a:pathLst>
          </a:custGeom>
          <a:noFill/>
          <a:ln w="36720">
            <a:solidFill>
              <a:srgbClr val="00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5080" y="1859040"/>
            <a:ext cx="2986200" cy="3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ffff"/>
                </a:solidFill>
                <a:latin typeface="Times New Roman"/>
              </a:rPr>
              <a:t>putative_ortholog_o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25800" y="3300480"/>
            <a:ext cx="1683000" cy="3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ffff"/>
                </a:solidFill>
                <a:latin typeface="Times New Roman"/>
              </a:rPr>
              <a:t>parto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602160" y="3911760"/>
            <a:ext cx="1917720" cy="3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ffff"/>
                </a:solidFill>
                <a:latin typeface="Times New Roman"/>
              </a:rPr>
              <a:t>producedb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744640" y="1128600"/>
            <a:ext cx="472140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Orthology Relation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193760" y="1052640"/>
            <a:ext cx="7772400" cy="5824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